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72B-B2CB-41AA-AA2D-D81F457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54C-6C4C-4603-A823-0B98B02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83D-01F9-4AC1-97DB-AC8C476D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C9C-A8E2-44B2-869A-DC1FADD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778-A4A7-4C00-A975-297D7A8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A21-2908-4E18-8FAA-D401E40B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589-AAAA-46FF-A807-D178660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34E-9B8E-4DB1-B71D-7012AC73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0AE-91C4-403D-9DD4-4792FF47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0C3-1E00-4646-ABAE-FB25A41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A16-4CB3-4801-A9FD-FBDD54B3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779-DBEE-4DF1-AA42-E9272A3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F99-6F1C-4712-807F-BBC58259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" Target="slide18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18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" Target="slide1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2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" Target="slide28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" Target="slide2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28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" Target="slide28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" Target="slide3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" Target="slide3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" Target="slide3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" Target="slide3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" Target="slide38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" Target="slide3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" Target="slide38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" Target="slide3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4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1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388360" y="59500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924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7160" y="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59500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9280" y="6165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57400" cy="386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94320" y="0"/>
            <a:ext cx="3649680" cy="2433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3133800" cy="443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602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85128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742080" y="0"/>
            <a:ext cx="2401920" cy="240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1280" y="2565360"/>
            <a:ext cx="685800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40360" y="148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097160" y="3497400"/>
            <a:ext cx="5046840" cy="3360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00720" y="549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72560" cy="6286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96320" y="5221440"/>
            <a:ext cx="1147680" cy="163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6308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00960" cy="495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0160" y="5013360"/>
            <a:ext cx="1293840" cy="184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61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62373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Georgia"/>
              </a:rPr>
              <a:t>АСТРИД ЛИНДГ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3336840"/>
            <a:ext cx="8101080" cy="3521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47160" y="189000"/>
            <a:ext cx="996840" cy="142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1636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4716360" cy="447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7160" y="5229360"/>
            <a:ext cx="996840" cy="142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5734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008840" cy="525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0160" y="5013360"/>
            <a:ext cx="129384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16572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77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6193080" cy="464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47120" y="4724280"/>
            <a:ext cx="1496880" cy="21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1132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6200000">
            <a:off x="-1276200" y="2868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ЭРНЕСТ ТЕОДОР АМАДЕЙ ГОФ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99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00720" y="0"/>
            <a:ext cx="374328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784680"/>
            <a:ext cx="4097160" cy="307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40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8604360" cy="485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99400" y="4941720"/>
            <a:ext cx="13446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5920" cy="364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43560" y="0"/>
            <a:ext cx="3700440" cy="284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195640" y="307656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87700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4233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96000" y="3460680"/>
            <a:ext cx="4248000" cy="339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47160" y="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16000" y="17640"/>
            <a:ext cx="6075360" cy="599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6165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ХАНС ХРИСТИАН АНДЕ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3416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59640" y="4762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31680"/>
            <a:ext cx="763272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6000" cy="338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00720" y="3376440"/>
            <a:ext cx="4643280" cy="3481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374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83400" y="0"/>
            <a:ext cx="2460600" cy="373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564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6329520" cy="475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96280" y="4508640"/>
            <a:ext cx="1647720" cy="234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6093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2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6453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ДЖОЗЕФ РЕДЬЯРД КИПЛ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62160" cy="35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050920" y="3654360"/>
            <a:ext cx="4272120" cy="32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49960" y="0"/>
            <a:ext cx="2894040" cy="3645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692280"/>
            <a:ext cx="996840" cy="1420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9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6413760" cy="548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47120" y="4724280"/>
            <a:ext cx="149688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6165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67120" y="2205000"/>
            <a:ext cx="4376880" cy="465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2040" cy="278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92720" y="33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48360" y="9079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093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ЛЬЮИС КЭРРО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572680" cy="5610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595008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08660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5734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3179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3132000"/>
            <a:ext cx="7812000" cy="372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697880" y="0"/>
            <a:ext cx="144612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20000" y="2421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94120" y="0"/>
            <a:ext cx="524988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1395360" cy="1989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6165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АНТУАН ДЕ СЕНТ-ЭКЗЮП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6804000" cy="489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799400" y="4941720"/>
            <a:ext cx="1344600" cy="1916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1280" y="602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5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96360" y="4653000"/>
            <a:ext cx="1547640" cy="2205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24360" y="5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331956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368960" y="0"/>
            <a:ext cx="4775040" cy="3232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7596360" y="4653000"/>
            <a:ext cx="1547640" cy="2205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40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94400" y="4365720"/>
            <a:ext cx="17496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8360" y="59500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5910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595008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ЕЛЬМА ЛАГЕРЛЁ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48120" cy="415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4111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492360" y="4645080"/>
            <a:ext cx="1552680" cy="2212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9280" y="5950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3573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« - Трудно быть в чёт-то уверенным среди такого множества чудес! Весь мир странно переменился…. Как человек решит, что делать в такие времен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« - Как он всегда решал. Добро и Зло не изменились с давних пор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6696000" cy="4940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748640" y="4869000"/>
            <a:ext cx="1395360" cy="1989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19680" cy="580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680080" y="0"/>
            <a:ext cx="3463920" cy="580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284720" y="5229360"/>
            <a:ext cx="996840" cy="142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6400" cy="4406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216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1192320" cy="1700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98764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076720" y="522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ДЖАННИ РОД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854360" y="0"/>
            <a:ext cx="4227480" cy="5334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799400" y="4941720"/>
            <a:ext cx="1344600" cy="1916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9640" y="602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147160" y="543708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6308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2892600"/>
            <a:ext cx="7080120" cy="3965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840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97880" y="4797360"/>
            <a:ext cx="1446120" cy="206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40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3390840"/>
            <a:ext cx="5580000" cy="346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492360" y="0"/>
            <a:ext cx="5651640" cy="3398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877080" y="4508640"/>
            <a:ext cx="1647720" cy="2349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9079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586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55640" y="6165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КЛАЙВ СТЭЙПЛЗ ЛЬЮ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7058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29280" y="2421000"/>
            <a:ext cx="3114720" cy="4437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8360" y="1268280"/>
            <a:ext cx="523548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сказочни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4680" cy="501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14920" y="3038400"/>
            <a:ext cx="5329080" cy="3819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47160" y="0"/>
            <a:ext cx="996840" cy="142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734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7:48:42Z</dcterms:created>
  <dc:creator>Пользователь Windows</dc:creator>
  <dc:description/>
  <dc:language>en-US</dc:language>
  <cp:lastModifiedBy>Adel</cp:lastModifiedBy>
  <dcterms:modified xsi:type="dcterms:W3CDTF">2014-05-04T15:50:45Z</dcterms:modified>
  <cp:revision>30</cp:revision>
  <dc:subject/>
  <dc:title>Слайд 1</dc:title>
</cp:coreProperties>
</file>